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253-4944-4339-B9DB-D0BDB6D5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E2B-EC46-4340-B1B8-485F295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4B1FB-A574-4B5E-B81E-ABEF7DD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25ED9-51CE-45EB-813E-06CC2152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943DE-3DBB-4F74-A9C6-6AE9FB70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4388-612D-46BE-AFB2-99026BB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692C8-0D5A-4F9B-A349-B736220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370C7-CAA9-47F0-93AF-E9C87D4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6D591-73D0-4EB1-936F-229E88BA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70741-4F24-461B-A571-1D25969F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6C314-B9B3-465E-A090-B14889DD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C55F5-6BCD-4F6D-9F26-5336FA78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4C7-80AC-430C-A8F7-9A2FD88A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1EE07-A9DD-4F84-8A7C-A0333001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D47B7-B4E6-41C9-924B-E6FA86D6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13083-6268-452A-8123-A8A39E0F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49FEB-FD0E-48F8-A81D-00B88AD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D8489-6498-4713-AA34-01C7BF24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87AB3-088F-4F6A-AEE5-EE82BEA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6DF8C-E61D-4D77-8A14-3CDBBA3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C0192-23E8-43D4-8252-84B136D1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44E8-8ADE-4A21-B51C-65EC2E5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A2F75-02C4-49CC-AC29-63571353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3AE-335F-4180-8D36-8A14C994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E7774-94DA-4A9A-A9C1-F8FFC4FC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C5788-0C38-41C1-899A-C21D819C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A4004-3EED-43B2-92F8-25E1B94C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CB2D8-2459-4FF8-AB59-AAA6A9C9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E24FA-1F41-48E2-BF88-30886BD7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7D2FC-13A1-40EA-B446-AA2B57C6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F68A7-9CC4-4F07-B2D5-8E76440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91A3C-2CE8-4473-985E-9B8353E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A4E16-9E92-443A-A1C2-1938B17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9BBE9-526F-4C8B-8608-02FD493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4C7E-9004-44DE-AB7D-4E7AB48F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5B858-4A18-4977-93C5-E2913C79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3F75A-3B52-4750-93A4-88C6FF27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0214D-17CD-4C72-BA2F-9D235533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4B512-1C7B-4B29-8BA6-13503E1F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7A646-7A43-42B0-A631-063FD7E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EE3B6-F37F-4CF9-A5AC-CF4E98B3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068B3-F23A-45FB-B561-786E2D4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F3516-C052-4263-94EC-F2B3FD53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4E001-50A4-489E-972F-62CABC59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A8045-1FBD-418F-859E-4D986BF5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9A3B-2981-4010-9D32-D183CF1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4BA89-7250-4253-A7C2-AA87D42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C3D5D-0E18-435D-B650-88B633B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5112E-C6EC-45A3-B816-3B2C789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C6B60-093D-4E9F-8277-83005988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527A0-6464-4318-B622-89F788CF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8063C-F443-4805-9635-3FEE1E72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2EE74-3CFF-4207-80C0-1B2CB44A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F743C-0A47-4B6A-AE28-CE4A6031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EF352-A524-4954-9D71-3D44C85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9DFCC-7580-436B-AC11-46448555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0FF2-4D17-4CA3-9940-DEED0A0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2A34F-0992-463F-B3DA-46FE1707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4BB9B-E045-4D42-8386-4812895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2E84F-D593-4037-AFDC-1ACC47E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5154A-8F3D-4B71-A9D9-AF5F5BA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14417-E1DA-4CA5-A27D-BB67E6CD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AB21E-5C69-42CD-858C-90316B14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DCEAE-86A1-4F1E-9997-7A61898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F6724-7BE4-4C01-9C99-30D30897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E0E3F-E066-45C3-BCDF-FDF6A04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11F50-9C07-4E3F-9033-179C44B8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6BC8-7923-4A80-B011-F0B0C43C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685C8-BD14-456B-9BED-78992782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950C2-5D0B-4F2F-B44A-02DA263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794F6-8DFF-4A25-905D-8667191D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D552E-CEED-408F-8B08-B683850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A275F-9DF6-46C5-AAE0-1A37662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FBE25-DCE8-4F2E-8927-483E199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487E3-95B8-457C-BB96-691D3FDD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8E5F5-4950-4193-B1B2-E24F70B1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D7715-E752-4D4C-90FE-5A5BB5BA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F01DF-7CAA-4703-8693-46809016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E498-77B9-4F14-ABE6-6031DA00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706A4-BF1C-4CED-9E33-977F3C3B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7935B-5FA1-44E6-9C03-A16AA2C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86E7E-C754-4D50-A0F1-34A59506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97918-019B-4118-9BDD-0E67FA8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31A20-59B2-4FE1-97A1-B880366F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00347-A70E-4CC8-809C-DE6FD987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8B1A7-1292-4650-A214-39A634E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4B051-DA4D-411C-AEAB-63F371B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FF692-65E4-4DB2-B5D3-55E3B35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E4B46-00F1-4736-B803-91702F4F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4DF-1635-4AFD-B34F-D6928936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31447-F5D3-4C77-A4D7-07DFDA7D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6282E-9083-4952-9E56-3AC3D70C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52881-CA49-407F-968C-F9D44ACB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98510-8108-4463-AA32-FF87FD59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415A9-B4EA-41F1-ADD4-42B391F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3C08B-E8EB-4DA8-8BCF-C9C2C52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8A3A0-6A3F-4477-AF26-C851BD92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FAE38-955E-41C4-9A53-1493495D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8F5A5-562C-44A7-B0AA-556B5C8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1D8D8-9154-429C-8625-94DB38D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6127-F5D2-435D-AC9C-F0297BAE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97547-0B89-4CB5-A683-52658538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45828-0F69-40AA-A8F9-708A3EBC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EFD93-891F-49A2-B2CC-8664C856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25C70-E666-47A2-B551-8FD76962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DD5D2-E163-4572-B1D7-3D1D5335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D5A51-9C07-4307-8742-B93484F9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1252F-964D-44D2-84C2-38FB436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70FB1-6449-429C-94B5-D79F8059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A9822-82DA-49F4-AC8B-AE6AEA30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93821-4A96-403D-B297-05852E51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1AF-4EDE-41A8-A278-6720BC8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8CFD-3793-438F-AD5C-3329AC0B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8FE35-50DD-41E0-99E5-18D788E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79FE3-EBA6-461B-A23B-8A8E35D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48809-3B0E-433A-B485-29E69689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C3281-92A1-48EE-A4EF-8EE32C89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5109F-2880-426D-80C7-E8FDD7AE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6FEB5-D22F-44CA-A308-ED98BD73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1E7A5-757C-485D-A3B5-F11895AE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C020F-ED83-4455-9810-1DCCAEFD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8112D-EE1C-4629-BE5A-52BD61D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BD59C-ED6A-4032-ABF0-EF3E1E3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2447-9433-45F0-BCAE-B7643F4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DBD41-B893-491D-B655-0D7FA796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EE5FB-6B4F-4C94-90FC-1169C7A7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82C56-9D99-47DE-BD34-CE6AB37D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792F5-925D-477F-9027-80613A1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8C9A8-889B-4730-934C-B9395C0B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8E6132-D933-4935-AEF3-DBF439C4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2A0A2-03A6-41F6-8B24-73C04151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A910E-90D2-48D3-89AA-60FB01AE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9B701-8276-45AB-A07D-E940C8C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E6EDBA-16D1-4162-9EDB-69F0EBE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7C2F-DDD2-4BA9-9193-676CAB4A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C08B0-C701-48D1-A4E1-F840AA94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5D25C-A151-4B0F-B615-E7B555B5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E4F45-67A3-453E-A775-05C2DC08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785AB-8A14-4832-BD8C-9FF52ED7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0E87C-FFF2-4211-B5EE-EE3CEEF3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211B1-9E22-440B-8805-9B7C8DC8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CEB415-0C8D-4412-B359-C325BFBE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3E08A-E097-4738-A1EA-95F57DE0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84D7B-1E3E-4DD0-9971-2AF9EA03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A7E68-1EA7-4A7E-A4C4-B5596B79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EDEF-E570-4F80-9401-53C74B4D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E62DF-578E-4A1D-A74F-9A488665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106A9-E0B4-4800-8796-BAE4B114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2CB1E-A4D6-4673-9406-83961271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ACDA2-CBE8-464F-B329-B4A8D5E3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EA0A4-4E20-4AAC-AC71-EF36A88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3B78C-B98D-4BC3-85B4-0718EC3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2F9E9-CBAE-4654-AC61-FC842E1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6CE46-A048-4B8E-8E80-63A1F4A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3FD5A-0E08-4B35-9917-810C293F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9112C-BA7D-4576-A137-D9453A65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F6BE-3C7F-49C1-9C03-AA7CD206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E05FE-1671-4BCD-AD58-37409F2E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0C6A2-4D18-4B07-9DD8-6762324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9C17A-C940-40AD-AA5D-8BFB5F54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7773F-7EA7-4717-9FFC-475A357E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8B825-A640-4ED1-BDDA-1257107A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22F48-AE0E-43E0-992C-E50801DD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5A86D-BC37-4F18-A8B7-603BA76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61511-55B5-440C-8013-5950053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07928-CC5D-41AF-96BF-6BCBAFB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DBEFD-1524-4297-9BF3-AEBF07A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B5A5-EDEB-4C03-B474-516F0409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4D89D-3704-4093-B9C1-55D7265E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1BE7B-C409-45EF-ACE7-8B3566A4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B3167-F7C7-4B3B-956C-82490CB9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3F6D-E434-4395-AA2A-C8DAE55A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0C5F-DF81-4BB5-823F-D1A6CB1C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22F9-AF18-470E-B8A0-9AF626F5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4A8D8-161E-4F8F-96A2-66B3CC34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B11-0B45-4476-BE98-AD8E735D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033D-B815-4A8A-B1A8-E4BF95A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DC9F-3465-4BE8-B949-01995E42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80A0-A772-47CA-A9F1-89FB4F6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D955-6685-4821-9266-FF4AF0F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411F-38AB-4CB9-9676-45760EF0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388E-078A-44A0-AA9E-844CE23E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8BA6-7529-4BA9-B23C-F85EE180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93CA-9186-42CC-87E7-7C0020B7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C8B0-9DD4-4D85-99A9-E7DBF77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7071-AAE3-40E5-8FDF-36E528C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677-F5BC-4771-B1AD-7C162AB9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73E8-FAF0-4684-A542-9F0AF1DE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1A7B-EECD-481C-A72A-206A8890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4939-578C-432D-A385-2B55669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B2BF-E21A-44D7-AEAC-AFE50FD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8D5D-0910-494D-A9FC-E075619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919D-E171-4F1F-B0D5-DB0CA7D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6744-33CC-4B53-B80A-E84D0FFF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74EF-0168-48BD-B68B-395B1A3A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2A59-5C0F-469B-A530-3A89D50D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EE4B5-60C3-40EC-A69A-6F7FB520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9EF-0B87-4EA7-882F-B07773CD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BB39C-43A1-413C-A0BC-DA8D188C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3A00-E348-4158-A1F5-92E572EA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98ED4-8B67-4CF5-9B45-2AC76F2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898A1-5540-4871-AE00-25AAD3A9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280A-F3FB-4FF1-850D-1E79C642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71016-62CC-4935-BB77-6E33673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0067F-50B3-4FD8-BAB1-538631A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2673-66A1-4A01-89E2-08BCA65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C0A3-3704-4C5B-903E-DEF01AD9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833AD-2AD5-4576-BDC0-BDEA2CA5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D18-26A4-4C8E-8D13-50E9A04A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45D29-FEFB-41FB-A7E0-7F2C8E33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7A87-7150-437E-8FE4-E0916855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F165A-2D35-44E8-B895-14621DD5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E1D60-AC2E-423C-9745-4978DF2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F683-1187-48AA-A388-FF65F77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863E8-F455-42EE-86A3-6869352B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96B87-4887-4028-A00A-6E5A8980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F92BF-FCAC-4147-BC96-AA11C3C8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76D8-8F9A-47A7-920D-06D2ECC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4C5BA-306E-46F7-87D0-163570E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034-88A7-459F-AFA5-B9E0126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16561-0CDD-448E-9713-0C97E67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7A6F-063E-4BCF-B843-84B1F94D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5A7E-8C83-4822-82BB-03BEC153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DA4D-EC8F-4DEB-98F3-50553719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5C28-DABC-4A6F-848F-7FDD015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9CF4-0550-49F9-BC6F-826990D0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36506-DE40-46B2-BFB2-3D69DF54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8AFC9-95AB-4512-BA98-D7403F3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A77BB-FFFF-45D5-B133-48EB44D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ABC4F-07BE-4273-92B1-7742CF77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5B2-0588-4CE6-858A-2DE2B1C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4DC9B-39A1-44EF-A2FE-72E71485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D5EF-C543-47D2-B981-2A673E72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2F70-F406-470B-9701-3184CEB6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7F29-3D15-4B55-88CC-D93FCA58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9BCC-2C2D-4695-B361-F597ADDE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CF4F-7C9B-4D03-A28D-E61E3B27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1CE9-9E6A-45C2-BA50-4A9F308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ACEDD-7DED-45A0-A3FF-224CAC10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8B4C-2111-4975-85D6-F5C53B45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4809-04BB-41CC-B07E-F573546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4EE-6366-491F-A450-D09D94C8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4490F-592E-4C9C-A2CC-6B326F55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D7A27-F6A9-4A14-9DF9-2F7F12D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6F45E-F767-4307-AEBB-3571C39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61EE5-849A-40C9-A2E3-3F63B65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CDA6-639F-4506-A0FB-9ECE823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B788E-D273-4F7A-B270-1C6F0E30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40E59-9748-46D0-9847-11EE30D5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09F6D-6400-4DBA-A67D-86961276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A8123-8028-44B2-B0D1-B2515586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CA5A2-7AD8-4BF7-A8C3-AD44C1B8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DBE8-4FC7-4CD6-9872-6A96C31DB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48E-48AD-43F2-9F2C-8655B92EA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E857-47DE-4FF0-8F7E-5C512ECEE9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4AC-CE14-4983-B4BC-7F3C3FCC7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0CD2-2CD1-4F02-BD10-149F1116A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DFFE-8310-46B5-93AC-15460DA1B9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FE9-D2B4-4B8B-8A79-708B448B6F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AE1E-EFE8-4B6A-8472-0A6C2F1F1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F944-E404-45B3-AB61-0E03E3993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73CB-6C14-4624-893C-8410DBE0F0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20C7-EE0B-4289-BC87-A756F336E9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D4C8-F7AC-4366-883B-966DBF18CB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E4B-1B79-4EB7-81E1-1A3511EF08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2A76-88CB-4741-AE54-A367228FD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E33-E58C-4F1C-B65B-10A7E0D77D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D591-87AF-4B21-824A-3805F28749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3F0-73ED-47E0-9E3D-48A74F194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DF45-E787-4D82-9711-8DD3C288DF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EE4D-5294-4BD0-ADBC-5EB08C597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965-E6AD-43E3-BB62-EB5462D80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D33A-DAA7-4CDD-BE22-E3C4A78F9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AEEB-A3D4-477A-90EB-2C1A7064E4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B34B-5F2D-4E35-8934-CF447D09CF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46F3-4958-43D0-8BBA-D8B85033C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3491-91F5-4060-BCDF-E2263E976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7AD-58C8-41BC-B819-AAB64F17AE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46A0-53B8-4E88-9FA2-48242D9738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5EDD-EF7E-451F-98E8-F31F0DB28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D9B6-65D8-4FB7-9D52-47258DC39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D4C-FD22-49D3-8883-F57C4BB0C5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E9C-ADF7-42BE-9B60-3236CD80A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1658-A532-4A9E-887C-4304C2388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2BD0-57D9-47FD-94F7-638EEAFFBD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538C-064F-4680-9C1B-38CCAD692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084C-114F-4F74-8714-B21F24AB0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BA3-5D1E-4227-8C45-37DAAB4F88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4309-0576-4626-A712-DCC64CBCC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9309-085E-428F-AD6E-5D11CEB0D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7A1C-37BD-4C55-983D-EA58E4CCF0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285-1449-4719-92D2-9B6D3956F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00160" y="2928960"/>
            <a:ext cx="6943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600120" y="1490760"/>
            <a:ext cx="7943760" cy="3876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619280" y="2205000"/>
            <a:ext cx="504720" cy="393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619280" y="2881440"/>
            <a:ext cx="504720" cy="393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547640" y="3500280"/>
            <a:ext cx="505080" cy="393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547640" y="4149720"/>
            <a:ext cx="505080" cy="393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619280" y="4724280"/>
            <a:ext cx="50472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23840" y="1090440"/>
            <a:ext cx="8896320" cy="4677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476360" y="4451400"/>
            <a:ext cx="863640" cy="1065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3433680" y="4465800"/>
            <a:ext cx="863640" cy="10648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5435640" y="4437000"/>
            <a:ext cx="863640" cy="10652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7380360" y="4437000"/>
            <a:ext cx="8636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90360" y="1190520"/>
            <a:ext cx="8961480" cy="447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3492360" y="2550960"/>
            <a:ext cx="93528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3995640" y="3213000"/>
            <a:ext cx="122400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564000" y="3832200"/>
            <a:ext cx="93492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3665520" y="4465800"/>
            <a:ext cx="93492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3506760" y="5099040"/>
            <a:ext cx="9349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2000" cy="39146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3492360" y="219060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4643280" y="219060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6877080" y="21906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8028000" y="21765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3492360" y="28098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4643280" y="28242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6877080" y="28098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8028000" y="28242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3419640" y="3443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4572000" y="3443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6804000" y="34434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3"/>
          <a:stretch/>
        </p:blipFill>
        <p:spPr>
          <a:xfrm>
            <a:off x="7885080" y="34434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4"/>
          <a:stretch/>
        </p:blipFill>
        <p:spPr>
          <a:xfrm>
            <a:off x="3492360" y="40910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5"/>
          <a:stretch/>
        </p:blipFill>
        <p:spPr>
          <a:xfrm>
            <a:off x="4643280" y="4067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16"/>
          <a:stretch/>
        </p:blipFill>
        <p:spPr>
          <a:xfrm>
            <a:off x="6877080" y="4091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7"/>
          <a:stretch/>
        </p:blipFill>
        <p:spPr>
          <a:xfrm>
            <a:off x="8028000" y="407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8"/>
          <a:stretch/>
        </p:blipFill>
        <p:spPr>
          <a:xfrm>
            <a:off x="3564000" y="472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9"/>
          <a:stretch/>
        </p:blipFill>
        <p:spPr>
          <a:xfrm>
            <a:off x="687708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2:17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